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4427-A6D3-455A-92F5-076B2AB7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39D5-893E-4404-BCE2-077DF032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A65B-1DC9-44E8-A64A-30131623B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2213-BA58-429F-A255-10FAB7FE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CF9E-6836-4B71-8E2C-F97F7109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A2F4-5CB3-4717-AF88-EC0C2873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B982-27B4-4982-BFE9-8F80B9C0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9DDC-565F-4D16-A2D4-CDF13F36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C2DB-1041-40DE-ADC8-F930739D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04E1-A624-4BB3-9013-6AA0129B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761D-E649-4BA2-A5C8-810A8A74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3822-9B4C-4AD1-98E6-12AD5D8C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93CD-102A-41FB-BAF0-3E5C6C2C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6D3C-388A-4966-8F14-0694815F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2D3F-19A6-4DF7-A4F7-F53408D3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B1EE-6036-490E-BC66-764C1F5A7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0377-D0A0-4500-B138-25935B74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B991-6BF8-4C81-B6CE-0BB9F15A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AA7C-1D36-4A68-95C7-7EA88687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879A-C35A-49BB-A1CD-E9090000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A81C-EBEF-4BD3-94B2-F998DE53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212E-F237-410B-9CEA-3D9E5035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63E2-CDE6-4B70-BC12-46B192F9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7389-C6CB-47D1-9279-C65B86E5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1EE9-273B-442E-9827-AF6E9690924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4C98-6307-479A-B28E-5E23B6B12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115920"/>
            <a:ext cx="6084720" cy="22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????Boutros Rokaa"/>
              </a:rPr>
              <a:t>سهران كل اللي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0"/>
            <a:ext cx="5508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هران كلّ اللي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م صلّيل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ِنجوم تغف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شمع حدّي يدو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995640" y="0"/>
            <a:ext cx="5148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سوع حلم الكون خدني بإيد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ا درب إلـمَ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جَّك المحبوب</a:t>
            </a:r>
            <a:r>
              <a:rPr b="1" lang="ar-LB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2708280"/>
            <a:ext cx="9144000" cy="263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مشي وفتّش عالطريق مْنَين لِجبال إطلع إقطَع الوديان</a:t>
            </a:r>
            <a:r>
              <a:rPr b="1" lang="ar-LB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1773360"/>
            <a:ext cx="9144000" cy="299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الشمس أو بالبحر إنت وَي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3429000"/>
            <a:ext cx="9144000" cy="278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مّا بزهره معطرة البستا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0"/>
            <a:ext cx="5508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هران كلّ اللي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م صلّيل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ِنجوم تغف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شمع حدّي يدو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77724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19:09:52Z</dcterms:created>
  <dc:creator>Charbel Azar</dc:creator>
  <dc:description/>
  <dc:language>en-US</dc:language>
  <cp:lastModifiedBy>ف</cp:lastModifiedBy>
  <dcterms:modified xsi:type="dcterms:W3CDTF">2006-04-11T09:52:50Z</dcterms:modified>
  <cp:revision>6</cp:revision>
  <dc:subject/>
  <dc:title>Slide 1</dc:title>
</cp:coreProperties>
</file>